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4.jpeg" ContentType="image/jpeg"/>
  <Override PartName="/ppt/media/image13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33.jpeg" ContentType="image/jpeg"/>
  <Override PartName="/ppt/media/image27.jpeg" ContentType="image/jpeg"/>
  <Override PartName="/ppt/media/image12.jpeg" ContentType="image/jpeg"/>
  <Override PartName="/ppt/media/image4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FE87-6684-4D58-9BEC-7FE0A549C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BF36-BAC0-4698-BA53-D7718EE71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656F-D1D2-431A-AD6A-C91A81074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Alhambra pintada en el siglo XIX, a los quinientos a</a:t>
            </a:r>
            <a:r>
              <a:rPr b="0" lang="es-EC" sz="1200" spc="-1" strike="noStrike">
                <a:solidFill>
                  <a:srgbClr val="000000"/>
                </a:solidFill>
                <a:latin typeface="Arial"/>
              </a:rPr>
              <a:t>ños de la época de los eventos que nos conciern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29B8-FAEF-4511-A930-19152529B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F4E9-1768-4871-84F2-369CBF6C0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EEAF-C095-4880-9335-DF2779813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41F3-E37F-48D2-88E3-1E37BF8E7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EFA0-7E60-4B3F-82FC-B1BECE112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223C-6C65-4332-8E6F-19762A061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A1C5-887F-4213-9C40-3873E5196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4ABC-B2FC-434C-B62F-0FA8D4B59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DB4E-B85D-48D8-A93F-6F51875B5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93D3-0E45-4F4E-A729-93190B3D4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55CA-DB55-45E9-A65C-6133CFEE0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04AE-CDD9-43D9-8048-7A4DA8BD7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7D8A-B400-45D3-B3A8-EB755CC6D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4E4D-2EA6-4788-A2BD-842240B39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DD66-3301-4DFC-8C59-804C8004C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E80D-119A-40AA-BFB3-06028FC54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D877-5BA3-4F9E-9243-71B2BC64B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582F-E1BE-4701-8747-31CE8817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49D2-E677-48CB-AA38-2D550181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C613-7CD7-4572-AF71-72E85A66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E918-648E-4800-9E69-AE1A778C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2CA5-AC8C-45D6-9AC6-CC3897C4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8D5F-9B04-451F-90DF-E2BAD0B2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CAAB-B427-4C2A-8207-1D43CC7D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73EA-91D2-47F4-980F-D6D0CBAD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D166-4514-4FA0-8D8A-777C08D6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0902-BC1A-4D00-ADA5-32250EA6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F41D-B098-4F70-9033-D92C3E5E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2AD2-D507-4C14-BFD5-19B229A8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666A-DE81-478B-8E41-34717A4D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7FED-0F93-4BFB-B256-538D32D6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77BE-7A11-4F28-BBD7-D4DF7DA5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E97D-58EB-4E24-AD0A-E601708C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1F99-9F75-4DA3-9139-77DF7023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4E00-AECF-45AB-91E2-2B00BA65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EA14-BE57-42F1-94C8-7A12020E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0DA3-1084-489E-93C8-C2A1E3C7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C27C-32E5-412E-9529-64BA7A74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D29C-1168-4977-A7C1-EC7316BA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960C-EBDE-4145-B690-C986F12B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1BF9-6508-4644-A3B0-1C1A1597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D42B-7AF4-4C93-B0AC-A7E8CC6EB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30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D510-3C30-4B54-BCA6-4F6F734D72F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ruemetal.org/colombianmetal/masacre/img/m.gif&amp;imgrefurl=http://www.truemetal.org/colombianmetal/masacre/&amp;h=300&amp;w=203&amp;sz=32&amp;hl=en&amp;start=3&amp;tbnid=0uz6m_qEAY_QfM:&amp;tbnh=116&amp;tbnw=78&amp;prev=/images%3Fq%3Dmasacre%2B%26svnum%3D10%26hl%3Den%26lr%3D%26sa%3D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l-Andalus" TargetMode="External"/><Relationship Id="rId2" Type="http://schemas.openxmlformats.org/officeDocument/2006/relationships/hyperlink" Target="http://www.artehistoria.com/frames.htm?http://www.artehistoria.com/historia/contextos/817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1080" y="9144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mance del rey moro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que perdi</a:t>
            </a:r>
            <a:r>
              <a:rPr b="0" lang="es-EC" sz="4400" spc="-1" strike="noStrike">
                <a:solidFill>
                  <a:srgbClr val="000000"/>
                </a:solidFill>
                <a:latin typeface="Times New Roman"/>
              </a:rPr>
              <a:t>ó Alhama”</a:t>
            </a:r>
            <a:br>
              <a:rPr sz="4400"/>
            </a:br>
            <a:r>
              <a:rPr b="0" lang="es-EC" sz="44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s-EC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</a:t>
            </a:r>
            <a:r>
              <a:rPr b="0" lang="es-EC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imo,  Espa</a:t>
            </a:r>
            <a:r>
              <a:rPr b="0" lang="es-EC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ñ</a:t>
            </a:r>
            <a:r>
              <a:rPr b="0" lang="es-EC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, c. 1500</a:t>
            </a:r>
            <a:br>
              <a:rPr sz="4400"/>
            </a:br>
            <a:br>
              <a:rPr sz="4400"/>
            </a:br>
            <a:r>
              <a:rPr b="0" lang="es-EC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 agradecimiento                             a la Sra. Bonnie Bowen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15600" y="3886200"/>
            <a:ext cx="6729480" cy="20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Times New Roman"/>
              </a:rPr>
              <a:t>Trasfondo geográfico  e histó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52880" y="485640"/>
            <a:ext cx="208764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Image Alhama Alhambra pintada SXIX"/>
          <p:cNvPicPr/>
          <p:nvPr/>
        </p:nvPicPr>
        <p:blipFill>
          <a:blip r:embed="rId1"/>
          <a:stretch/>
        </p:blipFill>
        <p:spPr>
          <a:xfrm>
            <a:off x="1447920" y="1333440"/>
            <a:ext cx="6858000" cy="51292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1523880" y="53352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La Alham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Spain%202002---Alhambra%20Palace%20in%20Grenada"/>
          <p:cNvPicPr/>
          <p:nvPr/>
        </p:nvPicPr>
        <p:blipFill>
          <a:blip r:embed="rId1"/>
          <a:stretch/>
        </p:blipFill>
        <p:spPr>
          <a:xfrm>
            <a:off x="3352680" y="1600200"/>
            <a:ext cx="3888000" cy="49608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2666880" y="3808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 Alhambra, joya de arquitectura árabe en Españ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60480"/>
            <a:ext cx="830556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996600"/>
                </a:solidFill>
                <a:latin typeface="Times New Roman"/>
              </a:rPr>
              <a:t>La Puerta de Elvira, en Granada,  hoy…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Image Alhama Puerta de Elvira"/>
          <p:cNvPicPr/>
          <p:nvPr/>
        </p:nvPicPr>
        <p:blipFill>
          <a:blip r:embed="rId1"/>
          <a:stretch/>
        </p:blipFill>
        <p:spPr>
          <a:xfrm>
            <a:off x="3886200" y="1295280"/>
            <a:ext cx="4800600" cy="4743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1905120" y="1752480"/>
            <a:ext cx="1828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Era una de las entradas en la muralla de la ciudad medie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449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996600"/>
                </a:solidFill>
                <a:latin typeface="Times New Roman"/>
              </a:rPr>
              <a:t>La Puerta de Vivarrambla, </a:t>
            </a:r>
            <a:br>
              <a:rPr sz="4000"/>
            </a:br>
            <a:r>
              <a:rPr b="0" lang="es-EC" sz="4000" spc="-1" strike="noStrike">
                <a:solidFill>
                  <a:srgbClr val="996600"/>
                </a:solidFill>
                <a:latin typeface="Times New Roman"/>
              </a:rPr>
              <a:t>hoy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240" y="2679480"/>
            <a:ext cx="341964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2900" spc="-1" strike="noStrike">
                <a:solidFill>
                  <a:srgbClr val="000000"/>
                </a:solidFill>
                <a:latin typeface="Times New Roman"/>
              </a:rPr>
              <a:t>Era otra de las entradas en la muralla de la ciudad medieval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Image Alhama Puerta de Bibarrambla"/>
          <p:cNvPicPr/>
          <p:nvPr/>
        </p:nvPicPr>
        <p:blipFill>
          <a:blip r:embed="rId1"/>
          <a:stretch/>
        </p:blipFill>
        <p:spPr>
          <a:xfrm>
            <a:off x="4876920" y="762120"/>
            <a:ext cx="3520800" cy="510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7" descr="zacatin"/>
          <p:cNvPicPr/>
          <p:nvPr/>
        </p:nvPicPr>
        <p:blipFill>
          <a:blip r:embed="rId1"/>
          <a:stretch/>
        </p:blipFill>
        <p:spPr>
          <a:xfrm>
            <a:off x="1371600" y="1676520"/>
            <a:ext cx="2637000" cy="4419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l Zacat</a:t>
            </a:r>
            <a:r>
              <a:rPr b="0" lang="es-EC" sz="4400" spc="-1" strike="noStrike">
                <a:solidFill>
                  <a:srgbClr val="996600"/>
                </a:solidFill>
                <a:latin typeface="Times New Roman"/>
              </a:rPr>
              <a:t>ín, en Granada, ho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343400" y="1371600"/>
          <a:ext cx="4419720" cy="1223316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81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catín significa "Mercado de ropa“, donde se vendían textiles y tela en la parte inferior de la calle en épocas árab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zona incluía también una gran variedad de toda clase de artesanos: plateros, curtidores, tintoreros, zapateros, y sombrerer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La f</a:t>
            </a:r>
            <a:r>
              <a:rPr b="0" lang="es-EC" sz="4400" spc="-1" strike="noStrike">
                <a:solidFill>
                  <a:srgbClr val="996600"/>
                </a:solidFill>
                <a:latin typeface="Times New Roman"/>
              </a:rPr>
              <a:t>értil Vega de Granada, ho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2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8" descr="Image Alhama Vega de Granada1"/>
          <p:cNvPicPr/>
          <p:nvPr/>
        </p:nvPicPr>
        <p:blipFill>
          <a:blip r:embed="rId1"/>
          <a:stretch/>
        </p:blipFill>
        <p:spPr>
          <a:xfrm>
            <a:off x="1752480" y="1600200"/>
            <a:ext cx="6629400" cy="427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934320" cy="11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La leyenda de la sala de los Abencerraje: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nombre de Abencerraje proviene del apellido de una familia de la nobleza de la época.  Tenían sus viviendas en el interior de la Alhamb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http://www.bluffton.edu/~sullivanm/spain/granada/alhambra/0100.jpg"/>
          <p:cNvPicPr/>
          <p:nvPr/>
        </p:nvPicPr>
        <p:blipFill>
          <a:blip r:embed="rId1"/>
          <a:stretch/>
        </p:blipFill>
        <p:spPr>
          <a:xfrm>
            <a:off x="2819520" y="3352680"/>
            <a:ext cx="4287600" cy="3286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523880" y="1371600"/>
            <a:ext cx="243864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enta la leyenda …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54f4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los Abencerraje tenían como rivales políticos a otra familia, los Zene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arabkar99"/>
          <p:cNvPicPr/>
          <p:nvPr/>
        </p:nvPicPr>
        <p:blipFill>
          <a:blip r:embed="rId1"/>
          <a:stretch/>
        </p:blipFill>
        <p:spPr>
          <a:xfrm>
            <a:off x="3962520" y="990720"/>
            <a:ext cx="4906800" cy="49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981080" y="2971800"/>
            <a:ext cx="3200400" cy="31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d54f4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por eso inventaron una relación amorosa entre la sultana y un hombre de la familia de los Abencerra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Sultana_SM"/>
          <p:cNvPicPr/>
          <p:nvPr/>
        </p:nvPicPr>
        <p:blipFill>
          <a:blip r:embed="rId1"/>
          <a:stretch/>
        </p:blipFill>
        <p:spPr>
          <a:xfrm>
            <a:off x="5181480" y="1981080"/>
            <a:ext cx="3143520" cy="4191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676520" y="914400"/>
            <a:ext cx="7010280" cy="18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d54f4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los Zenete decidieron acabar con sus oponentes mediante una conspiració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e2b6"/>
            </a:gs>
            <a:gs pos="100000">
              <a:srgbClr val="d54f4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1523880" y="685800"/>
            <a:ext cx="5562720" cy="63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enta la leyenda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54f4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el sultán, cegado por los celos y la ira, tom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ó a los Abencerrajes por enemigos suyos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54f4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54f4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con ocasión de una fiesta en la sala que lleva el nombre de la familia, hizo decapitar sobre su fuente a los 37 caballeros que llevaban el nombre de Abencerrajes, dejando para el último al supuesto culp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5" descr="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1447920"/>
            <a:ext cx="16002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66520" y="349200"/>
            <a:ext cx="5715000" cy="15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996600"/>
                </a:solidFill>
                <a:latin typeface="Times New Roman"/>
              </a:rPr>
              <a:t>Andalucía hoy,                        al-Ándalus en el Medioevo </a:t>
            </a:r>
            <a:br>
              <a:rPr sz="3600"/>
            </a:b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93" name="Picture 4" descr="Image Alhama mapaAndalucía"/>
          <p:cNvPicPr/>
          <p:nvPr/>
        </p:nvPicPr>
        <p:blipFill>
          <a:blip r:embed="rId1"/>
          <a:stretch/>
        </p:blipFill>
        <p:spPr>
          <a:xfrm>
            <a:off x="2449440" y="1905120"/>
            <a:ext cx="6694560" cy="419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e2b6"/>
            </a:gs>
            <a:gs pos="100000">
              <a:srgbClr val="d54f4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431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sala de los Abencerrajes, ho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6840" y="1981080"/>
            <a:ext cx="448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8" descr="Image Alhama Sala de los abencerrajes"/>
          <p:cNvPicPr/>
          <p:nvPr/>
        </p:nvPicPr>
        <p:blipFill>
          <a:blip r:embed="rId1"/>
          <a:stretch/>
        </p:blipFill>
        <p:spPr>
          <a:xfrm>
            <a:off x="1523880" y="1752480"/>
            <a:ext cx="2362320" cy="46483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/>
          <p:cNvSpPr/>
          <p:nvPr/>
        </p:nvSpPr>
        <p:spPr>
          <a:xfrm>
            <a:off x="4038480" y="1905120"/>
            <a:ext cx="4648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cuenta que el color rojizo que aun hoy día se puede contemplar en la taza de la fuente y también en el canal que lleva su agua hasta la fuente del Patio de los Leones, se debe a las manchas de la sangre de los caballeros decapitados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mapa"/>
          <p:cNvPicPr/>
          <p:nvPr/>
        </p:nvPicPr>
        <p:blipFill>
          <a:blip r:embed="rId1"/>
          <a:stretch/>
        </p:blipFill>
        <p:spPr>
          <a:xfrm>
            <a:off x="2590920" y="1828800"/>
            <a:ext cx="5486400" cy="44053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3505320" y="53352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447920" y="60948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órdoba era la antigua capital del reino musulmán al-Andalus; se sitúa al noroeste de Gra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819520" y="6094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tornadizos eran renegados musulmanes; cristanos conversos al Islam, pero de dudosa lealt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5257800" cy="4202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920" y="2514240"/>
            <a:ext cx="2286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996600"/>
                </a:solidFill>
                <a:latin typeface="Arial"/>
              </a:rPr>
              <a:t>Es la tercera en tamaño del mundo, después de la de Casablanca y de la de Meca.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56" name="Picture 11" descr="Image Alhama MezquitadeCórdoba"/>
          <p:cNvPicPr/>
          <p:nvPr/>
        </p:nvPicPr>
        <p:blipFill>
          <a:blip r:embed="rId1"/>
          <a:stretch/>
        </p:blipFill>
        <p:spPr>
          <a:xfrm>
            <a:off x="3843360" y="1600200"/>
            <a:ext cx="4922640" cy="49528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3"/>
          <p:cNvSpPr/>
          <p:nvPr/>
        </p:nvSpPr>
        <p:spPr>
          <a:xfrm>
            <a:off x="1523880" y="304920"/>
            <a:ext cx="6782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996600"/>
                </a:solidFill>
                <a:latin typeface="Times New Roman"/>
              </a:rPr>
              <a:t>La mezquita de Córdoba, “la nombrada” ho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996600"/>
                </a:solidFill>
                <a:latin typeface="Times New Roman"/>
              </a:rPr>
              <a:t>El alfaquí, portavoz del pueblo, lanza su acusación contra el rey moro: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59" name="Picture 11" descr="Image Alhama 3"/>
          <p:cNvPicPr/>
          <p:nvPr/>
        </p:nvPicPr>
        <p:blipFill>
          <a:blip r:embed="rId1"/>
          <a:stretch/>
        </p:blipFill>
        <p:spPr>
          <a:xfrm>
            <a:off x="1663560" y="1981080"/>
            <a:ext cx="2451240" cy="40370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19560" y="1981080"/>
            <a:ext cx="477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lí habló un alfaqu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barba crecida y ca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¡Bien se te emplea, buen re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uen rey, bien se te emplear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¡Mataste los Abencerraj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que eran la flor de Granad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giste los tornadi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C</a:t>
            </a: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órdoba la nombrada!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996600"/>
                </a:solidFill>
                <a:latin typeface="Times New Roman"/>
              </a:rPr>
              <a:t>Un vistazo a los 700 años de la Hegemonía Musulmana (o Reconquista) de la Península Ibérica, iniciada en el año 711: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26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900" spc="-1" strike="noStrike">
                <a:solidFill>
                  <a:srgbClr val="000000"/>
                </a:solidFill>
                <a:latin typeface="Times New Roman"/>
              </a:rPr>
              <a:t>Este mapa a mano derecha demuestra, </a:t>
            </a:r>
            <a:r>
              <a:rPr b="0" lang="es-EC" sz="2800" spc="-1" strike="noStrike">
                <a:solidFill>
                  <a:srgbClr val="99ff33"/>
                </a:solidFill>
                <a:latin typeface="Times New Roman"/>
              </a:rPr>
              <a:t>en color verde</a:t>
            </a:r>
            <a:r>
              <a:rPr b="0" lang="es-EC" sz="2900" spc="-1" strike="noStrike">
                <a:solidFill>
                  <a:srgbClr val="000000"/>
                </a:solidFill>
                <a:latin typeface="Times New Roman"/>
              </a:rPr>
              <a:t>, el Emirato Omeya Independiente (</a:t>
            </a:r>
            <a:r>
              <a:rPr b="0" lang="es-EC" sz="2900" spc="-1" strike="noStrike">
                <a:solidFill>
                  <a:srgbClr val="99ff33"/>
                </a:solidFill>
                <a:latin typeface="Times New Roman"/>
              </a:rPr>
              <a:t>756-929</a:t>
            </a:r>
            <a:r>
              <a:rPr b="0" lang="es-EC" sz="29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26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900" spc="-1" strike="noStrike">
                <a:solidFill>
                  <a:srgbClr val="000000"/>
                </a:solidFill>
                <a:latin typeface="Times New Roman"/>
              </a:rPr>
              <a:t>Éste, el Califato Omeya (</a:t>
            </a:r>
            <a:r>
              <a:rPr b="0" lang="es-EC" sz="2900" spc="-1" strike="noStrike">
                <a:solidFill>
                  <a:srgbClr val="99ff33"/>
                </a:solidFill>
                <a:latin typeface="Times New Roman"/>
              </a:rPr>
              <a:t>929 -1031</a:t>
            </a:r>
            <a:r>
              <a:rPr b="0" lang="es-EC" sz="29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8" descr="Image Alhama mapa emirato omeya 755-929"/>
          <p:cNvPicPr/>
          <p:nvPr/>
        </p:nvPicPr>
        <p:blipFill>
          <a:blip r:embed="rId1"/>
          <a:stretch/>
        </p:blipFill>
        <p:spPr>
          <a:xfrm>
            <a:off x="6400800" y="1752480"/>
            <a:ext cx="1822320" cy="2133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Image Alhama mapa califato omeya 929-1031"/>
          <p:cNvPicPr/>
          <p:nvPr/>
        </p:nvPicPr>
        <p:blipFill>
          <a:blip r:embed="rId2"/>
          <a:stretch/>
        </p:blipFill>
        <p:spPr>
          <a:xfrm>
            <a:off x="6858000" y="4267080"/>
            <a:ext cx="1935000" cy="2254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00"/>
                </a:solidFill>
                <a:latin typeface="Times New Roman"/>
              </a:rPr>
              <a:t>Del siglo XI al siglo XV…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Los Reinos de los Taifas (</a:t>
            </a:r>
            <a:r>
              <a:rPr b="0" lang="es-EC" sz="2800" spc="-1" strike="noStrike">
                <a:solidFill>
                  <a:srgbClr val="99ff33"/>
                </a:solidFill>
                <a:latin typeface="Times New Roman"/>
              </a:rPr>
              <a:t>1031-1086</a:t>
            </a: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El Gobierno Almorávide (</a:t>
            </a:r>
            <a:r>
              <a:rPr b="0" lang="es-EC" sz="2800" spc="-1" strike="noStrike">
                <a:solidFill>
                  <a:srgbClr val="99ff33"/>
                </a:solidFill>
                <a:latin typeface="Times New Roman"/>
              </a:rPr>
              <a:t>1086-1147</a:t>
            </a: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8" descr="Image Alhama mapa taifas 1031-1086"/>
          <p:cNvPicPr/>
          <p:nvPr/>
        </p:nvPicPr>
        <p:blipFill>
          <a:blip r:embed="rId1"/>
          <a:stretch/>
        </p:blipFill>
        <p:spPr>
          <a:xfrm>
            <a:off x="4952880" y="1295280"/>
            <a:ext cx="2059200" cy="2210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Image Alhama mapa almoravides fines SXI"/>
          <p:cNvPicPr/>
          <p:nvPr/>
        </p:nvPicPr>
        <p:blipFill>
          <a:blip r:embed="rId2"/>
          <a:stretch/>
        </p:blipFill>
        <p:spPr>
          <a:xfrm>
            <a:off x="6724800" y="3773520"/>
            <a:ext cx="190944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00200" y="-316080"/>
            <a:ext cx="7354800" cy="26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996600"/>
                </a:solidFill>
                <a:latin typeface="Times New Roman"/>
              </a:rPr>
              <a:t>Castilla y Aragón, en color rosa y verde, en la época de los Reyes Católicos (casados en 1469).  Y al sur, el Reino de Granada, el último enclave musulmán…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Image Alhama ÉpocadelosReyesCatólicosMapaRitaGoldberg"/>
          <p:cNvPicPr/>
          <p:nvPr/>
        </p:nvPicPr>
        <p:blipFill>
          <a:blip r:embed="rId1"/>
          <a:stretch/>
        </p:blipFill>
        <p:spPr>
          <a:xfrm>
            <a:off x="2514600" y="22096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3200400" y="6019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</a:t>
            </a: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í, en verde ol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136080"/>
            <a:ext cx="73152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996600"/>
                </a:solidFill>
                <a:latin typeface="Times New Roman"/>
              </a:rPr>
              <a:t>“</a:t>
            </a:r>
            <a:r>
              <a:rPr b="0" lang="es-EC" sz="4000" spc="-1" strike="noStrike">
                <a:solidFill>
                  <a:srgbClr val="996600"/>
                </a:solidFill>
                <a:latin typeface="Times New Roman"/>
              </a:rPr>
              <a:t>El romance del rey moro que perdió Alhama”: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trata menos la pérdida de </a:t>
            </a:r>
            <a:r>
              <a:rPr b="1" i="1" lang="es-EC" sz="2800" spc="-1" strike="noStrike">
                <a:solidFill>
                  <a:srgbClr val="000000"/>
                </a:solidFill>
                <a:latin typeface="Times New Roman"/>
              </a:rPr>
              <a:t>Alhama</a:t>
            </a: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 que la entonces inevitable pérdida de </a:t>
            </a:r>
            <a:r>
              <a:rPr b="1" i="1" lang="es-EC" sz="2800" spc="-1" strike="noStrike">
                <a:solidFill>
                  <a:srgbClr val="000000"/>
                </a:solidFill>
                <a:latin typeface="Times New Roman"/>
              </a:rPr>
              <a:t>Gra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trata menos la pérdida de Granada que la entonces inevitable pérdida de la </a:t>
            </a:r>
            <a:r>
              <a:rPr b="1" i="1" lang="es-EC" sz="2800" spc="-1" strike="noStrike">
                <a:solidFill>
                  <a:srgbClr val="000000"/>
                </a:solidFill>
                <a:latin typeface="Times New Roman"/>
              </a:rPr>
              <a:t>Península Ibé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encierra un sentimiento elegíaco por la pérdida de </a:t>
            </a:r>
            <a:r>
              <a:rPr b="1" i="1" lang="es-EC" sz="2800" spc="-1" strike="noStrike">
                <a:solidFill>
                  <a:srgbClr val="000000"/>
                </a:solidFill>
                <a:latin typeface="Times New Roman"/>
              </a:rPr>
              <a:t>al-Ándalus</a:t>
            </a: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, el reino de los musulmanes en la Península Ibérica que había durado 700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120" y="-71640"/>
            <a:ext cx="7202520" cy="15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Times New Roman"/>
              </a:rPr>
              <a:t>Por más de siete siglos los musulm</a:t>
            </a:r>
            <a:r>
              <a:rPr b="0" lang="es-EC" sz="2800" spc="-1" strike="noStrike">
                <a:solidFill>
                  <a:srgbClr val="996600"/>
                </a:solidFill>
                <a:latin typeface="Times New Roman"/>
              </a:rPr>
              <a:t>anes y cristianos convivieron:  a veces colaboraban. . . . 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76" name="Picture 13" descr="http://worldroots.com/brigitte/royal/kent/alfonso10castile.jpg"/>
          <p:cNvPicPr/>
          <p:nvPr/>
        </p:nvPicPr>
        <p:blipFill>
          <a:blip r:embed="rId1"/>
          <a:stretch/>
        </p:blipFill>
        <p:spPr>
          <a:xfrm>
            <a:off x="1752480" y="1447920"/>
            <a:ext cx="6842160" cy="502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00"/>
                </a:solidFill>
                <a:latin typeface="Times New Roman"/>
              </a:rPr>
              <a:t>¿Qué es Alhama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8960" y="1447560"/>
            <a:ext cx="2895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Al suroeste de la gran ciudad de Granada, </a:t>
            </a:r>
            <a:r>
              <a:rPr b="0" lang="es-EC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hama</a:t>
            </a: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 fue en el siglo XV una </a:t>
            </a:r>
            <a:r>
              <a:rPr b="0" lang="es-EC" sz="2800" spc="-1" strike="noStrike" u="sng">
                <a:solidFill>
                  <a:srgbClr val="000000"/>
                </a:solidFill>
                <a:uFillTx/>
                <a:latin typeface="Times New Roman"/>
              </a:rPr>
              <a:t>ciudad </a:t>
            </a: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s-EC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taleza</a:t>
            </a: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, vital para los moros.  Dominaba rutas claves desde Gra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alhama-2"/>
          <p:cNvPicPr/>
          <p:nvPr/>
        </p:nvPicPr>
        <p:blipFill>
          <a:blip r:embed="rId1"/>
          <a:stretch/>
        </p:blipFill>
        <p:spPr>
          <a:xfrm>
            <a:off x="4191120" y="1371600"/>
            <a:ext cx="4419360" cy="4343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666880" y="8380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996600"/>
                </a:solidFill>
                <a:latin typeface="Times New Roman"/>
              </a:rPr>
              <a:t>Pero también se enfrentaban en bata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3" descr="Image Alhama Guerreros musulmán y cristiano SigloXI"/>
          <p:cNvPicPr/>
          <p:nvPr/>
        </p:nvPicPr>
        <p:blipFill>
          <a:blip r:embed="rId1"/>
          <a:stretch/>
        </p:blipFill>
        <p:spPr>
          <a:xfrm>
            <a:off x="2666880" y="1523880"/>
            <a:ext cx="5639040" cy="487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523880"/>
            <a:ext cx="7391520" cy="1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arte, dios romano de la guerr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52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6" descr="Image Alhama Planeta Marte"/>
          <p:cNvPicPr/>
          <p:nvPr/>
        </p:nvPicPr>
        <p:blipFill>
          <a:blip r:embed="rId1"/>
          <a:stretch/>
        </p:blipFill>
        <p:spPr>
          <a:xfrm>
            <a:off x="1600200" y="2057400"/>
            <a:ext cx="3581280" cy="4419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Image Alhama Deus Marte"/>
          <p:cNvPicPr/>
          <p:nvPr/>
        </p:nvPicPr>
        <p:blipFill>
          <a:blip r:embed="rId2"/>
          <a:stretch/>
        </p:blipFill>
        <p:spPr>
          <a:xfrm>
            <a:off x="5375160" y="2057400"/>
            <a:ext cx="3387960" cy="4419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8"/>
          <p:cNvSpPr/>
          <p:nvPr/>
        </p:nvSpPr>
        <p:spPr>
          <a:xfrm>
            <a:off x="1219320" y="380880"/>
            <a:ext cx="74674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Pero el punto de vista que experimentamos en este </a:t>
            </a:r>
            <a:r>
              <a:rPr b="0" i="1" lang="es-EC" sz="2800" spc="-1" strike="noStrike">
                <a:solidFill>
                  <a:srgbClr val="000000"/>
                </a:solidFill>
                <a:latin typeface="Arial"/>
              </a:rPr>
              <a:t>romance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, ¿de quién será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00"/>
                </a:solidFill>
                <a:latin typeface="Times New Roman"/>
              </a:rPr>
              <a:t>¿Y qué es eso de “rey moro”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Times New Roman"/>
              </a:rPr>
              <a:t>¿No se llamaban los soberanos de los musulmanes por otros términos como “califa” o “sultán”?  Típicamente son los soberanos del mundo de Occidente los que se llaman “rey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Times New Roman"/>
              </a:rPr>
              <a:t>¿Qué conclusión pudiera un detective literario extraer de esta evidenc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905120" y="1066680"/>
            <a:ext cx="647676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s reyes moros no se llamaban reyes, sino califas o sultanes.  ¿Qué es eso de "rey moro" cuando eran Castilla y Aragón que tenían REYE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ro, hubo bastan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ncretism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en la vida real de las calles y campos de Andalucía, uno tiene sólo que imaginárselo, y nos quedamos con la interrogante delante: ¿quién habría sido el cristiano andaluz sin ninguna influencia árabe?  ni ¿quién el moro sin influencia de Occidente? 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752480" y="380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lex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600200" y="3962520"/>
            <a:ext cx="7162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fin de cuentas este lindo romance habría tenido no uno sino abundantes autores anónimos, ¿no te parece?, algunos tal vez cristianos y algunos tal vez moros y algunos tal vez judíos.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828800" y="5335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 romance es anónim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4038840" cy="263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5715000" y="1066680"/>
            <a:ext cx="2438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convivencia en ciertas áreas, ni qué decir los intereses mutuos, eran tal que es muy posible que hubiera más de un au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3500280" cy="5181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52120" y="762120"/>
            <a:ext cx="720252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996600"/>
                </a:solidFill>
                <a:latin typeface="Times New Roman"/>
              </a:rPr>
              <a:t>Famoso cuadro de la rendición de Granada por los moros, a manos de los Reyes Católicos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57200" y="1752480"/>
            <a:ext cx="81532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6400800" cy="4154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Image Alhama huestes cristianas y musulmanas smaller"/>
          <p:cNvPicPr/>
          <p:nvPr/>
        </p:nvPicPr>
        <p:blipFill>
          <a:blip r:embed="rId1"/>
          <a:stretch/>
        </p:blipFill>
        <p:spPr>
          <a:xfrm>
            <a:off x="2819520" y="380880"/>
            <a:ext cx="5410080" cy="53341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"/>
          <p:cNvSpPr/>
          <p:nvPr/>
        </p:nvSpPr>
        <p:spPr>
          <a:xfrm>
            <a:off x="3200400" y="57913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C" sz="3600" spc="-1" strike="noStrike">
                <a:solidFill>
                  <a:srgbClr val="000000"/>
                </a:solidFill>
                <a:latin typeface="Times New Roman"/>
              </a:rPr>
              <a:t>¡Ay de mi Alham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286000" y="1600200"/>
            <a:ext cx="548640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Para saber más, hagan clic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3300"/>
                </a:solidFill>
                <a:uFillTx/>
                <a:latin typeface="Times New Roman"/>
                <a:hlinkClick r:id="rId1"/>
              </a:rPr>
              <a:t>http://es.wikipedia.org/wiki/Al-Anda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y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3300"/>
                </a:solidFill>
                <a:uFillTx/>
                <a:latin typeface="Times New Roman"/>
                <a:hlinkClick r:id="rId2"/>
              </a:rPr>
              <a:t>http://www.artehistoria.com/frames.htm?http://www.artehistoria.com/historia/contextos/817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523880" y="685800"/>
            <a:ext cx="4572000" cy="26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En febrero de 1482, Alhama es atacada; un mes después, cae en manos de los Reyes Católic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alhama"/>
          <p:cNvPicPr/>
          <p:nvPr/>
        </p:nvPicPr>
        <p:blipFill>
          <a:blip r:embed="rId1"/>
          <a:stretch/>
        </p:blipFill>
        <p:spPr>
          <a:xfrm>
            <a:off x="1523880" y="3713040"/>
            <a:ext cx="3962520" cy="2695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2"/>
          <a:stretch/>
        </p:blipFill>
        <p:spPr>
          <a:xfrm>
            <a:off x="5715000" y="6858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3"/>
          <a:stretch/>
        </p:blipFill>
        <p:spPr>
          <a:xfrm>
            <a:off x="5715000" y="3733920"/>
            <a:ext cx="2971800" cy="260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-3812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00"/>
                </a:solidFill>
                <a:latin typeface="Times New Roman"/>
              </a:rPr>
              <a:t>¿Qué es Granada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342864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C" sz="3200" spc="-1" strike="noStrike">
                <a:solidFill>
                  <a:srgbClr val="000000"/>
                </a:solidFill>
                <a:latin typeface="Times New Roman"/>
              </a:rPr>
              <a:t>Al noreste de Alhama, es otra gran ciudad andalu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Times New Roman"/>
              </a:rPr>
              <a:t>Fue el último enclave del reino musulmán en la Península Ibérica hacia fines del siglo XV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5486400" cy="307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057400" y="9907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7086600" cy="46022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1752480" y="533520"/>
            <a:ext cx="7086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Times New Roman"/>
              </a:rPr>
              <a:t>Granada se rindió a los Reyes Católicos el 2 de enero de 149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00"/>
                </a:solidFill>
                <a:latin typeface="Times New Roman"/>
              </a:rPr>
              <a:t>¿Qué es la Alhambra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8960" y="426672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Es la impresionante fortaleza de los sultanes granadino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de Granada].</a:t>
            </a: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Además de un suntuoso palacio y mezquita, tenía capacidad para una guarnición de cuarenta mil homb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048120" y="1251000"/>
            <a:ext cx="4267080" cy="289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996600"/>
                </a:solidFill>
                <a:latin typeface="Times New Roman"/>
              </a:rPr>
              <a:t>La Alhambra, en Granada, hoy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14300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che, contra la impresionante                       Sierra Neva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Image Alhama Alhambra contemporánea"/>
          <p:cNvPicPr/>
          <p:nvPr/>
        </p:nvPicPr>
        <p:blipFill>
          <a:blip r:embed="rId1"/>
          <a:stretch/>
        </p:blipFill>
        <p:spPr>
          <a:xfrm>
            <a:off x="1981080" y="2209680"/>
            <a:ext cx="6858000" cy="4332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Y la Alhambra, en Granada, h</a:t>
            </a:r>
            <a:r>
              <a:rPr b="0" lang="es-EC" sz="4400" spc="-1" strike="noStrike">
                <a:solidFill>
                  <a:srgbClr val="996600"/>
                </a:solidFill>
                <a:latin typeface="Times New Roman"/>
              </a:rPr>
              <a:t>oy 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Times New Roman"/>
              </a:rPr>
              <a:t>De dí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Image Alhama Alhambra"/>
          <p:cNvPicPr/>
          <p:nvPr/>
        </p:nvPicPr>
        <p:blipFill>
          <a:blip r:embed="rId1"/>
          <a:stretch/>
        </p:blipFill>
        <p:spPr>
          <a:xfrm>
            <a:off x="1676520" y="2065320"/>
            <a:ext cx="6781680" cy="4476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15:25:51Z</dcterms:created>
  <dc:creator>End User</dc:creator>
  <dc:description/>
  <dc:language>en-US</dc:language>
  <cp:lastModifiedBy>Mami</cp:lastModifiedBy>
  <dcterms:modified xsi:type="dcterms:W3CDTF">2010-04-07T04:27:46Z</dcterms:modified>
  <cp:revision>104</cp:revision>
  <dc:subject/>
  <dc:title>“Romance del rey moro que perdió Alhama”</dc:title>
</cp:coreProperties>
</file>